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529-2C9E-4069-91BE-02C96DC4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9E1-BAF5-4F6D-A0FA-9568D9EC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1FF-BEFF-450F-B321-B1B9CF4A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370-4BF0-4FBB-B253-A167BC46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CE0-FC12-4572-B08F-D0DFAEF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DF6-885E-4179-9609-6DA6A7CD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422-64C6-4D82-9B32-BE8C24EE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45F-607B-4430-BDAA-D94C3D96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547-74F1-4FCF-9E63-E659E306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3D5-3FFC-4D49-8097-E20DB685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AAD-0B96-4FE7-9F0A-E4A55223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815-274F-4BEF-B92F-022CB6BE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86E3-C187-4675-BE4D-65A2C55D6E6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4:16:25Z</dcterms:created>
  <dc:creator>Grupo Editorial</dc:creator>
  <dc:description/>
  <dc:language>en-US</dc:language>
  <cp:lastModifiedBy>TORRES</cp:lastModifiedBy>
  <dcterms:modified xsi:type="dcterms:W3CDTF">2010-12-18T22:18:05Z</dcterms:modified>
  <cp:revision>2</cp:revision>
  <dc:subject/>
  <dc:title>Sin título de diapositiva</dc:title>
</cp:coreProperties>
</file>